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E52-AFB2-464C-91FF-5ADD1E51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9F2-3F92-48CD-AEC1-8A9164F4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5DB-664C-43E4-B0BA-52756E22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701-5CCB-4488-B0C7-5578063D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9DB-6176-4EC6-A456-3D758C08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AB4-222D-465B-8AC0-D5D1183B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4D1-4AE2-4352-BF2E-2B0FFE00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883-93CB-4E38-BCA1-831A83DA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759-601E-4AEB-B769-E3B1076B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177-AA32-4448-A8DD-1B1553BD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D5F-3A46-47CE-873A-9AAEA57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A1A-5612-4863-B628-3821661E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7FB3-BAC6-458A-BE1D-7D9B5B4DE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823320" y="38160"/>
            <a:ext cx="8884440" cy="548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Нежн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моето сърц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bg-BG" sz="11700" spc="-1" strike="noStrike">
                <a:solidFill>
                  <a:srgbClr val="ffcc00"/>
                </a:solidFill>
                <a:latin typeface="Monotype Corsiva"/>
              </a:rPr>
              <a:t>те кани,</a:t>
            </a:r>
            <a:br>
              <a:rPr sz="11700"/>
            </a:b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1107360" y="3890880"/>
            <a:ext cx="1120824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Само Теб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0000"/>
                </a:solidFill>
                <a:latin typeface="Monotype Corsiva"/>
              </a:rPr>
              <a:t>обичам,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само Теб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желая аз,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20640"/>
            <a:ext cx="795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моет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сърц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жадува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 </a:t>
            </a:r>
            <a:r>
              <a:rPr b="1" lang="bg-BG" sz="9600" spc="-1" strike="noStrike">
                <a:solidFill>
                  <a:srgbClr val="ff0000"/>
                </a:solidFill>
                <a:latin typeface="Monotype Corsiva"/>
              </a:rPr>
              <a:t>Теб</a:t>
            </a:r>
            <a:r>
              <a:rPr b="1" lang="en-US" sz="9600" spc="-1" strike="noStrike">
                <a:solidFill>
                  <a:srgbClr val="ff0000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6381720"/>
            <a:ext cx="111600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735200" y="3963960"/>
            <a:ext cx="1262556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На където и погледна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виждам Твоите добри дела,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920" y="2060640"/>
            <a:ext cx="6272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Monotype Corsiva"/>
              </a:rPr>
              <a:t>Боже мой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107360" y="3890880"/>
            <a:ext cx="1120824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Само Теб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0000"/>
                </a:solidFill>
                <a:latin typeface="Monotype Corsiva"/>
              </a:rPr>
              <a:t>обичам,</a:t>
            </a:r>
            <a:br>
              <a:rPr sz="6000"/>
            </a:b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7200" spc="-1" strike="noStrike">
                <a:solidFill>
                  <a:srgbClr val="ffffff"/>
                </a:solidFill>
                <a:latin typeface="Monotype Corsiva"/>
              </a:rPr>
              <a:t>само Теб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желая аз,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20640"/>
            <a:ext cx="795672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моет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сърц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жадува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 </a:t>
            </a:r>
            <a:r>
              <a:rPr b="1" lang="bg-BG" sz="11700" spc="-1" strike="noStrike">
                <a:solidFill>
                  <a:srgbClr val="ff0000"/>
                </a:solidFill>
                <a:latin typeface="Monotype Corsiva"/>
              </a:rPr>
              <a:t>Теб</a:t>
            </a:r>
            <a:r>
              <a:rPr b="1" lang="en-US" sz="11700" spc="-1" strike="noStrike">
                <a:solidFill>
                  <a:srgbClr val="ff0000"/>
                </a:solidFill>
                <a:latin typeface="Monotype Corsiva"/>
              </a:rPr>
              <a:t>!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56720" y="6237360"/>
            <a:ext cx="1116000" cy="5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729360" y="5500800"/>
            <a:ext cx="105271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п</a:t>
            </a: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рекланям се пред Теб,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33360"/>
            <a:ext cx="39052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Monotype Corsiva"/>
              </a:rPr>
              <a:t>Аз Т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Monotype Corsiva"/>
              </a:rPr>
              <a:t>почитам,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2316240"/>
            <a:ext cx="8604360" cy="315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1" lang="en-US" sz="6600" spc="-1" strike="noStrike">
                <a:solidFill>
                  <a:srgbClr val="ffcc00"/>
                </a:solidFill>
                <a:latin typeface="Monotype Corsiva"/>
              </a:rPr>
              <a:t>моят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Monotype Corsiva"/>
              </a:rPr>
              <a:t>душ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Monotype Corsiva"/>
              </a:rPr>
              <a:t>Те кани</a:t>
            </a:r>
            <a:r>
              <a:rPr b="1" lang="bg-BG" sz="6600" spc="-1" strike="noStrike">
                <a:solidFill>
                  <a:srgbClr val="000000"/>
                </a:solidFill>
                <a:latin typeface="Monotype Corsiva"/>
              </a:rPr>
              <a:t> 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72200" y="4797360"/>
            <a:ext cx="6371280" cy="141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Monotype Corsiva"/>
              </a:rPr>
              <a:t>днес ела!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29360" y="5500800"/>
            <a:ext cx="105271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п</a:t>
            </a: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рекланям се пред Теб,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3360"/>
            <a:ext cx="39052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Monotype Corsiva"/>
              </a:rPr>
              <a:t>Аз Т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Monotype Corsiva"/>
              </a:rPr>
              <a:t>почитам,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2316240"/>
            <a:ext cx="8604360" cy="315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1" lang="en-US" sz="6600" spc="-1" strike="noStrike">
                <a:solidFill>
                  <a:srgbClr val="ffcc00"/>
                </a:solidFill>
                <a:latin typeface="Monotype Corsiva"/>
              </a:rPr>
              <a:t>моят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Monotype Corsiva"/>
              </a:rPr>
              <a:t>душ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Monotype Corsiva"/>
              </a:rPr>
              <a:t>Те кани</a:t>
            </a:r>
            <a:r>
              <a:rPr b="1" lang="bg-BG" sz="6600" spc="-1" strike="noStrike">
                <a:solidFill>
                  <a:srgbClr val="000000"/>
                </a:solidFill>
                <a:latin typeface="Monotype Corsiva"/>
              </a:rPr>
              <a:t> 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72200" y="4797360"/>
            <a:ext cx="6371280" cy="141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Monotype Corsiva"/>
              </a:rPr>
              <a:t>днес ела!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396360" cy="704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746720" y="4230720"/>
            <a:ext cx="1237428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ела, ела </a:t>
            </a:r>
            <a:br>
              <a:rPr sz="6000"/>
            </a:b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cc00"/>
                </a:solidFill>
                <a:latin typeface="Monotype Corsiva"/>
              </a:rPr>
              <a:t>със Своя Дух във мен. </a:t>
            </a:r>
            <a:br>
              <a:rPr sz="8000"/>
            </a:br>
            <a:br>
              <a:rPr sz="66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165240"/>
            <a:ext cx="4562640" cy="197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99cc00"/>
                </a:solidFill>
                <a:latin typeface="Monotype Corsiva"/>
              </a:rPr>
              <a:t>Господи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18840" y="800280"/>
            <a:ext cx="4552920" cy="18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800" spc="-1" strike="noStrike">
                <a:solidFill>
                  <a:srgbClr val="99cc00"/>
                </a:solidFill>
                <a:latin typeface="Monotype Corsiva"/>
              </a:rPr>
              <a:t>Христе</a:t>
            </a: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55101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79680" y="2406600"/>
            <a:ext cx="7410600" cy="548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Нежн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Monotype Corsiva"/>
              </a:rPr>
              <a:t>          </a:t>
            </a:r>
            <a:r>
              <a:rPr b="1" lang="bg-BG" sz="6000" spc="-1" strike="noStrike">
                <a:solidFill>
                  <a:srgbClr val="ffcc00"/>
                </a:solidFill>
                <a:latin typeface="Monotype Corsiva"/>
              </a:rPr>
              <a:t>моето сърц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7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bg-BG" sz="11700" spc="-1" strike="noStrike">
                <a:solidFill>
                  <a:srgbClr val="99cc00"/>
                </a:solidFill>
                <a:latin typeface="Monotype Corsiva"/>
              </a:rPr>
              <a:t>те кани,</a:t>
            </a:r>
            <a:br>
              <a:rPr sz="11700"/>
            </a:b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6360" y="-24300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746720" y="1628640"/>
            <a:ext cx="12374280" cy="65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99cc00"/>
                </a:solidFill>
                <a:latin typeface="Monotype Corsiva"/>
              </a:rPr>
              <a:t>Господ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200" spc="-1" strike="noStrike">
                <a:solidFill>
                  <a:srgbClr val="99cc00"/>
                </a:solidFill>
                <a:latin typeface="Monotype Corsiva"/>
              </a:rPr>
              <a:t>     </a:t>
            </a:r>
            <a:r>
              <a:rPr b="1" lang="bg-BG" sz="7200" spc="-1" strike="noStrike">
                <a:solidFill>
                  <a:srgbClr val="99cc00"/>
                </a:solidFill>
                <a:latin typeface="Monotype Corsiva"/>
              </a:rPr>
              <a:t>Христе</a:t>
            </a:r>
            <a:r>
              <a:rPr b="1" lang="bg-BG" sz="6600" spc="-1" strike="noStrike">
                <a:solidFill>
                  <a:srgbClr val="99cc00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ела, ела </a:t>
            </a: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8000" spc="-1" strike="noStrike">
                <a:solidFill>
                  <a:srgbClr val="ffcc00"/>
                </a:solidFill>
                <a:latin typeface="Monotype Corsiva"/>
              </a:rPr>
              <a:t>със Своя Дух във мен. </a:t>
            </a:r>
            <a:br>
              <a:rPr sz="8000"/>
            </a:br>
            <a:br>
              <a:rPr sz="66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897480" y="1341360"/>
            <a:ext cx="8980200" cy="704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Аз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Т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почитам,</a:t>
            </a:r>
            <a:br>
              <a:rPr sz="6600"/>
            </a:br>
            <a:r>
              <a:rPr b="1" lang="bg-BG" sz="6600" spc="-1" strike="noStrike">
                <a:solidFill>
                  <a:srgbClr val="ffffff"/>
                </a:solidFill>
                <a:latin typeface="Monotype Corsiva"/>
              </a:rPr>
              <a:t> п</a:t>
            </a: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рекланям с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9600" spc="-1" strike="noStrike">
                <a:solidFill>
                  <a:srgbClr val="99cc00"/>
                </a:solidFill>
                <a:latin typeface="Monotype Corsiva"/>
              </a:rPr>
              <a:t>пред Теб,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675000" y="333360"/>
            <a:ext cx="8646480" cy="543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моята душ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9600" spc="-1" strike="noStrike">
                <a:solidFill>
                  <a:srgbClr val="ffffff"/>
                </a:solidFill>
                <a:latin typeface="Monotype Corsiva"/>
              </a:rPr>
              <a:t>Те кан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en-US" sz="10600" spc="-1" strike="noStrike">
                <a:solidFill>
                  <a:srgbClr val="ffcc00"/>
                </a:solidFill>
                <a:latin typeface="Monotype Corsiva"/>
              </a:rPr>
              <a:t>днес ела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1331640" y="4433760"/>
            <a:ext cx="11763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Monotype Corsiva"/>
              </a:rPr>
              <a:t>Аз Те </a:t>
            </a:r>
            <a:r>
              <a:rPr b="1" lang="bg-BG" sz="7200" spc="-1" strike="noStrike">
                <a:solidFill>
                  <a:srgbClr val="ffcc00"/>
                </a:solidFill>
                <a:latin typeface="Monotype Corsiva"/>
              </a:rPr>
              <a:t>  </a:t>
            </a:r>
            <a:r>
              <a:rPr b="1" lang="en-US" sz="7200" spc="-1" strike="noStrike">
                <a:solidFill>
                  <a:srgbClr val="ffcc00"/>
                </a:solidFill>
                <a:latin typeface="Monotype Corsiva"/>
              </a:rPr>
              <a:t>почитам,</a:t>
            </a:r>
            <a:br>
              <a:rPr sz="7200"/>
            </a:br>
            <a:r>
              <a:rPr b="1" lang="bg-BG" sz="7200" spc="-1" strike="noStrike">
                <a:solidFill>
                  <a:srgbClr val="ffcc00"/>
                </a:solidFill>
                <a:latin typeface="Monotype Corsiva"/>
              </a:rPr>
              <a:t>                    п</a:t>
            </a:r>
            <a:r>
              <a:rPr b="1" lang="en-US" sz="7200" spc="-1" strike="noStrike">
                <a:solidFill>
                  <a:srgbClr val="ffcc00"/>
                </a:solidFill>
                <a:latin typeface="Monotype Corsiva"/>
              </a:rPr>
              <a:t>рекланям с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cc00"/>
                </a:solidFill>
                <a:latin typeface="Monotype Corsiva"/>
              </a:rPr>
              <a:t>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3040" y="1628640"/>
            <a:ext cx="6127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Monotype Corsiva"/>
              </a:rPr>
              <a:t>пред Теб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3433680"/>
            <a:ext cx="799308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моята душ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en-US" sz="8000" spc="-1" strike="noStrike">
                <a:solidFill>
                  <a:srgbClr val="ffffff"/>
                </a:solidFill>
                <a:latin typeface="Monotype Corsiva"/>
              </a:rPr>
              <a:t>Те кан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2400" y="4997520"/>
            <a:ext cx="6665400" cy="138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cc00"/>
                </a:solidFill>
                <a:latin typeface="Monotype Corsiva"/>
              </a:rPr>
              <a:t>днес ела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1379880" y="81000"/>
            <a:ext cx="12003840" cy="33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Monotype Corsiva"/>
              </a:rPr>
              <a:t>На където и погледна</a:t>
            </a:r>
            <a:br>
              <a:rPr sz="6600"/>
            </a:br>
            <a:r>
              <a:rPr b="1" lang="en-US" sz="6600" spc="-1" strike="noStrike">
                <a:solidFill>
                  <a:srgbClr val="ffcc00"/>
                </a:solidFill>
                <a:latin typeface="Monotype Corsiva"/>
              </a:rPr>
              <a:t>виждам Твоит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cc00"/>
                </a:solidFill>
                <a:latin typeface="Monotype Corsiva"/>
              </a:rPr>
              <a:t>                              </a:t>
            </a:r>
            <a:r>
              <a:rPr b="1" lang="en-US" sz="6600" spc="-1" strike="noStrike">
                <a:solidFill>
                  <a:srgbClr val="ffcc00"/>
                </a:solidFill>
                <a:latin typeface="Monotype Corsiva"/>
              </a:rPr>
              <a:t>добри дела,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70720" y="1844640"/>
            <a:ext cx="6272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Боже мой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4:03:16Z</dcterms:created>
  <dc:creator>TrifonTrifonow</dc:creator>
  <dc:description/>
  <dc:language>en-US</dc:language>
  <cp:lastModifiedBy>TrifonTrifonow</cp:lastModifiedBy>
  <dcterms:modified xsi:type="dcterms:W3CDTF">2005-12-28T04:10:07Z</dcterms:modified>
  <cp:revision>2</cp:revision>
  <dc:subject/>
  <dc:title>Slide 1</dc:title>
</cp:coreProperties>
</file>